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4EB9-2934-47E0-A9E0-F0975F4B9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2277-0DAF-4D48-96DE-FD665DC8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C5A8-5344-4A32-A4CC-7AF1B1547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CF05-5F8C-4141-B02F-798F74175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256F-E015-4283-B3E9-274233A3A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BA046-E634-4E90-ACE4-8BBEED1E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76C2-1E5D-40D8-802D-4DE99944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ECD6-35F6-4B18-9FDE-36409C2F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4277-A77D-4A06-9E75-0F022B44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06CD1-9759-474A-B565-5731D5B9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E351-83A9-4722-BE8B-58972B67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FA0F-750A-49C2-B647-92C8A8CC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3455-ECC2-44AA-B56C-83DA3076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1F30-A542-4BC4-8F4A-9D1FA1C9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5EF2-F404-4881-A4B0-5F9566A0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A8B0-28AA-48DB-9DE0-2C66C5A9B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A7E3-205F-4B31-9F2D-C0283FDC4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26F4-D138-4467-9F2E-BC17D97C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A382-F2FC-4F9F-B02A-CBA48099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D84A-3BC5-438D-8FC8-904846A5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7062-5489-4C75-A269-BFCAAA7D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9859-F333-4646-B567-4513BE40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D889-A588-49A6-BCEA-6D2BD41E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1EF3-58B1-499C-A728-3BD17E36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FE32-91CB-43E9-9728-391EDCFCA4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BDD6-3C16-48B0-B307-172A727534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lex\Desktop\Send Back to FTP\LO banner art\BIO10NAE_17_LOT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42" name="Text Placeholder 2"/>
          <p:cNvSpPr/>
          <p:nvPr/>
        </p:nvSpPr>
        <p:spPr>
          <a:xfrm>
            <a:off x="0" y="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esson Ov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2971800" y="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The Process of Speci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6E6E-9AD6-48DC-BE90-3318408AA6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9AF4-4026-4305-93A5-8218F03096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U-V3OYwwQU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C:\Users\Alex\Desktop\Send Back to FTP\LO stills - splash screens\BIO10NAE_24_CTBG.jpg"/>
          <p:cNvPicPr/>
          <p:nvPr/>
        </p:nvPicPr>
        <p:blipFill>
          <a:blip r:embed="rId1"/>
          <a:stretch/>
        </p:blipFill>
        <p:spPr>
          <a:xfrm>
            <a:off x="228600" y="198360"/>
            <a:ext cx="4954680" cy="63547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7672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81bd"/>
                </a:solidFill>
                <a:latin typeface="Arial"/>
                <a:ea typeface="Arial"/>
              </a:rPr>
              <a:t>Lesson Over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28840" y="3219120"/>
            <a:ext cx="42670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7.3 The Proces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Spec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Var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Placeholder 2"/>
          <p:cNvSpPr/>
          <p:nvPr/>
        </p:nvSpPr>
        <p:spPr>
          <a:xfrm>
            <a:off x="990720" y="1600200"/>
            <a:ext cx="784836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of the recorded anatomical characteristics appeared in bell-shaped distributions typical of polygenic trai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data indicates that there is great variation of heritable traits among the Galápagos finc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Founders Arr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Placeholder 2"/>
          <p:cNvSpPr/>
          <p:nvPr/>
        </p:nvSpPr>
        <p:spPr>
          <a:xfrm>
            <a:off x="457200" y="1600200"/>
            <a:ext cx="5486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years ago, a few finches from South America—species M—arrived on one of the Galápagos islands, as shown in the fig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of the founder effect, the gene frequencies of this founding finch population could have differed from those in the South American popul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" descr="E:\Batch 1 final art\BIO10NAE_05_17_05_005_LRIM_06.png"/>
          <p:cNvPicPr/>
          <p:nvPr/>
        </p:nvPicPr>
        <p:blipFill>
          <a:blip r:embed="rId1"/>
          <a:stretch/>
        </p:blipFill>
        <p:spPr>
          <a:xfrm>
            <a:off x="5867280" y="1295280"/>
            <a:ext cx="3048120" cy="35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Placeholder 2"/>
          <p:cNvSpPr/>
          <p:nvPr/>
        </p:nvSpPr>
        <p:spPr>
          <a:xfrm>
            <a:off x="53352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Changes in Gene P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33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Placeholder 2"/>
          <p:cNvSpPr/>
          <p:nvPr/>
        </p:nvSpPr>
        <p:spPr>
          <a:xfrm>
            <a:off x="228600" y="1600200"/>
            <a:ext cx="5943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time, populations on each island adapted to local environm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selection could have caused two distinct populations to evolve (A and B), each characterized by a new physical appear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E:\Batch 1 final art\BIO10NAE_05_17_05_005_LRIM_08.png"/>
          <p:cNvPicPr/>
          <p:nvPr/>
        </p:nvPicPr>
        <p:blipFill>
          <a:blip r:embed="rId1"/>
          <a:stretch/>
        </p:blipFill>
        <p:spPr>
          <a:xfrm>
            <a:off x="6324480" y="1676520"/>
            <a:ext cx="264168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Placeholder 2"/>
          <p:cNvSpPr/>
          <p:nvPr/>
        </p:nvSpPr>
        <p:spPr>
          <a:xfrm>
            <a:off x="0" y="838080"/>
            <a:ext cx="91440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Competition and Continued 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Placeholder 2"/>
          <p:cNvSpPr/>
          <p:nvPr/>
        </p:nvSpPr>
        <p:spPr>
          <a:xfrm>
            <a:off x="152280" y="1600200"/>
            <a:ext cx="57913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rds that are most different from each other have the highest fitne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specialized birds have less competition for fo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time, species evolve in a way that increases the differences between them, and new species may evolve (C, D, and 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" descr="E:\Batch 1 final art\BIO10NAE_05_17_05_005_LRIM_10.png"/>
          <p:cNvPicPr/>
          <p:nvPr/>
        </p:nvPicPr>
        <p:blipFill>
          <a:blip r:embed="rId1"/>
          <a:stretch/>
        </p:blipFill>
        <p:spPr>
          <a:xfrm>
            <a:off x="6095880" y="1600200"/>
            <a:ext cx="279396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Bell Ring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Placeholder 2"/>
          <p:cNvSpPr/>
          <p:nvPr/>
        </p:nvSpPr>
        <p:spPr>
          <a:xfrm>
            <a:off x="457200" y="1905120"/>
            <a:ext cx="83818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hat does the term genetic drift mean? What are two examples of genetic drif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Daily Obj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Placeholder 2"/>
          <p:cNvSpPr/>
          <p:nvPr/>
        </p:nvSpPr>
        <p:spPr>
          <a:xfrm>
            <a:off x="457200" y="1905120"/>
            <a:ext cx="83818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 the types of isolation that can lead to the formation of new spec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Spec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Placeholder 2"/>
          <p:cNvSpPr/>
          <p:nvPr/>
        </p:nvSpPr>
        <p:spPr>
          <a:xfrm>
            <a:off x="457200" y="1905120"/>
            <a:ext cx="83818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peci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the formation of a new spe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pecies is a population whose members can interbreed and produce fertile offspr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E:\Batch 1 final art\BIO10NAE_05_17_05_005_LRIM_02.png"/>
          <p:cNvPicPr/>
          <p:nvPr/>
        </p:nvPicPr>
        <p:blipFill>
          <a:blip r:embed="rId1"/>
          <a:stretch/>
        </p:blipFill>
        <p:spPr>
          <a:xfrm>
            <a:off x="1440" y="3962520"/>
            <a:ext cx="9142560" cy="2286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Isolating Mechanis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Placeholder 2"/>
          <p:cNvSpPr/>
          <p:nvPr/>
        </p:nvSpPr>
        <p:spPr>
          <a:xfrm>
            <a:off x="380880" y="1600200"/>
            <a:ext cx="8305920" cy="39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productive isol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ccurs when a population splits into two groups and the two populations no longer interbre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populations become reproductively isolated, they can evolve into two separate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Behavioral Isol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Placeholder 2"/>
          <p:cNvSpPr/>
          <p:nvPr/>
        </p:nvSpPr>
        <p:spPr>
          <a:xfrm>
            <a:off x="380880" y="1600200"/>
            <a:ext cx="8458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havioral isol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ccurs when two populations that are capable of interbreeding develop differences in courtship rituals or other behavi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Bird’s of Paradise Courtship Rit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DU-V3OYwwQ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Geographic Isol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Placeholder 2"/>
          <p:cNvSpPr/>
          <p:nvPr/>
        </p:nvSpPr>
        <p:spPr>
          <a:xfrm>
            <a:off x="304920" y="160020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eographic isol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ccurs when two populations are separated by geographic barriers such as rivers, mountains, or bodies of wa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, the Kaibab squirrel is a subspecies of the Abert’s squirrel that formed when a small population became isolated on the north rim of the Grand Cany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e gene pools formed, and genetic changes in one group were not passed on to the oth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Temporal Isol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Placeholder 2"/>
          <p:cNvSpPr/>
          <p:nvPr/>
        </p:nvSpPr>
        <p:spPr>
          <a:xfrm>
            <a:off x="533520" y="1600200"/>
            <a:ext cx="830556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mporal isol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appens when two or more species reproduce at different times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, three species of orchid live in the same rain for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species has flowers that last only one day and must be pollinated on that day to produce see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the species bloom on different days, they cannot pollinate each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-228960" y="884160"/>
            <a:ext cx="93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Testing Natural Selection in Na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Placeholder 2"/>
          <p:cNvSpPr/>
          <p:nvPr/>
        </p:nvSpPr>
        <p:spPr>
          <a:xfrm>
            <a:off x="457200" y="1600200"/>
            <a:ext cx="838188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rwin hypothesized that the Galápagos finches had descended from a common ances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proposed that natural selection shaped the beaks of different bird populations as they became adapted to eat different fo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E:\Batch 1 final art\BIO10NAE_05_17_05_005_LRIM_04.png"/>
          <p:cNvPicPr/>
          <p:nvPr/>
        </p:nvPicPr>
        <p:blipFill>
          <a:blip r:embed="rId1"/>
          <a:stretch/>
        </p:blipFill>
        <p:spPr>
          <a:xfrm>
            <a:off x="12600" y="4267080"/>
            <a:ext cx="9142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04:26:24Z</dcterms:created>
  <dc:creator>Alex</dc:creator>
  <dc:description/>
  <dc:language>en-US</dc:language>
  <cp:lastModifiedBy>dzahm</cp:lastModifiedBy>
  <dcterms:modified xsi:type="dcterms:W3CDTF">2013-12-09T20:19:44Z</dcterms:modified>
  <cp:revision>43</cp:revision>
  <dc:subject/>
  <dc:title>Slide 1</dc:title>
</cp:coreProperties>
</file>